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10341"/>
        <c:axId val="74496845"/>
      </c:barChart>
      <c:catAx>
        <c:axId val="68710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96845"/>
        <c:crosses val="autoZero"/>
        <c:auto val="1"/>
        <c:lblAlgn val="ctr"/>
        <c:lblOffset val="100"/>
        <c:noMultiLvlLbl val="0"/>
      </c:catAx>
      <c:valAx>
        <c:axId val="74496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10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4EB-D0F9-4E16-8905-D8B3F18F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370-D9CA-47BD-871B-E1B5A93F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4DD-1CBC-4F80-8896-2D7C186A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345-D7D6-4CCC-820A-A09DB7FA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2C5-59AB-4C6E-8B25-BF9FB34B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45B-0041-441B-BE2A-9D456985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65D-697C-419F-8615-937FF2A1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AE28-0863-471A-98C6-DACB981D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12E5-6C07-48CB-8DC2-1FB93B45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F92-0A11-4040-A899-F5A1D252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86F-2E00-43E8-8A1B-A3991281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250-94E9-45DE-8F48-5FF27452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C6408-679D-4DEC-A871-DA0EA81E30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