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48290"/>
        <c:axId val="96423448"/>
      </c:barChart>
      <c:catAx>
        <c:axId val="42748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23448"/>
        <c:crosses val="autoZero"/>
        <c:auto val="1"/>
        <c:lblAlgn val="ctr"/>
        <c:lblOffset val="100"/>
        <c:noMultiLvlLbl val="0"/>
      </c:catAx>
      <c:valAx>
        <c:axId val="96423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48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4BC-6722-42A5-BBDD-EA87FABF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171-6A16-4567-AFE6-C3DCACEE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6F9-A98A-47A1-B588-7349DE90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A5D-57B0-4D9C-8DD5-350E7524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AD4-C4DA-4B0A-B5E2-C5631A2B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A5C-1F99-422A-9383-B2BBD9A6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9F3-4DA0-44E6-92AD-97657DE9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CFC-5A49-4493-83AA-F6541BE1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E7F-2A83-456F-B1C1-5EF117C1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5ED-963D-4924-8AAA-780AB79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9E2-17E6-466E-B961-831DA22A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8C1-9AE1-4BA0-A0CC-BE4F8B13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8AA65-1087-4B53-95F0-EA7D294927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