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07665"/>
        <c:axId val="81841928"/>
      </c:barChart>
      <c:catAx>
        <c:axId val="44107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41928"/>
        <c:crosses val="autoZero"/>
        <c:auto val="1"/>
        <c:lblAlgn val="ctr"/>
        <c:lblOffset val="100"/>
        <c:noMultiLvlLbl val="0"/>
      </c:catAx>
      <c:valAx>
        <c:axId val="81841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07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626-73C3-4B81-97F9-97F5F985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60B-2B97-4C59-9FF4-6B553FAD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749-9CDE-43DF-A4A9-EF710079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9B7-2069-44BC-AFEB-1D9DCF5E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AB5-1E08-4E3E-A60F-58E5C56B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B69-ADBA-40EA-AFD4-7A39C61E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B83-2119-4A05-8679-1CB903B4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BD8-C20E-4B04-9200-18AEC4DB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939-D98F-412B-B9F6-5AAC137D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333-7630-4CEC-A85D-667B42A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94B-48D9-4DE0-BE4A-F53EF30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1F6-67BD-4BB6-BFB5-F404F10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B5ECF-D222-40A2-B61D-DDDBB38C1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