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25645"/>
        <c:axId val="10969016"/>
      </c:barChart>
      <c:catAx>
        <c:axId val="822256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69016"/>
        <c:crosses val="autoZero"/>
        <c:auto val="1"/>
        <c:lblAlgn val="ctr"/>
        <c:lblOffset val="100"/>
        <c:noMultiLvlLbl val="0"/>
      </c:catAx>
      <c:valAx>
        <c:axId val="109690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256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D5C-77C4-43FF-99A2-639EA230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061-EE7C-4843-80F4-03222D02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8D0-D031-4D43-9D09-7CEEF946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EB8-740C-493A-A1ED-F04F84B8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FA4-E6D0-41A0-BF98-1E200545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FD0D-DB89-4304-9DE4-69E68582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3AF3-2B83-4F26-8E1C-E7355B68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919-1670-4462-AA85-EFEAA566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7E2C-95C7-4D27-9285-111A4D44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0B21-3D31-4220-8A9F-69746B2E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2E9-3C9D-4295-B71F-86429D8D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9208-B523-4889-8430-89AD8122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B9339-89F4-4ED9-A4A4-6339814AE5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