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976903"/>
        <c:axId val="55345685"/>
      </c:barChart>
      <c:catAx>
        <c:axId val="179769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345685"/>
        <c:crosses val="autoZero"/>
        <c:auto val="1"/>
        <c:lblAlgn val="ctr"/>
        <c:lblOffset val="100"/>
        <c:noMultiLvlLbl val="0"/>
      </c:catAx>
      <c:valAx>
        <c:axId val="553456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9769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E95D-A667-4533-90A1-E0F2E7401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E32B-C8F2-4F9B-BEDD-87E9BE84C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593E-38FF-4EC1-BB51-2AFD6F0D2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B503-BF1A-4343-9BC4-F52AAA0F4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21D9-66DF-4E93-9F23-30E8DBFB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8457-8F1D-4A17-ACE7-8105352F0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944A-C373-4C98-B253-F2DC100B8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99B3-1DEC-4D18-8D16-4CACED58F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F761-CFFF-4A8B-9362-5AE66CAFD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DC26-775E-4F27-B19C-17E612C0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0088-2ADE-4A86-8E76-669E4FC9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34F9-4474-496B-8632-C22F45FB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B3E305-60C8-4B52-81D2-7AAE4F052F2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