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838980"/>
        <c:axId val="38303264"/>
      </c:barChart>
      <c:catAx>
        <c:axId val="188389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303264"/>
        <c:crosses val="autoZero"/>
        <c:auto val="1"/>
        <c:lblAlgn val="ctr"/>
        <c:lblOffset val="100"/>
        <c:noMultiLvlLbl val="0"/>
      </c:catAx>
      <c:valAx>
        <c:axId val="383032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8389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9E6F-4BFD-4FED-A9AE-A1D2D67C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30B8-5A09-4BF0-BBE1-FE67F9ADD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33C0-769A-4FB0-BACD-321C05A8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AB7A-697D-4789-BD0F-48427A9D8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6467-09DF-48EA-844E-4D0C343F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2548-18A0-4DC0-AFCC-ECE6100D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28F9-20F5-4693-B61D-CE3CAE11A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0343-9DFA-44DE-8E46-6D969479A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520C-DEF0-41C5-8BCA-DE00D5F1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DC28-D1E5-40AC-AB18-A13CABE3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8DD7-85A8-4D42-8EE1-6AA6EA50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913F-842C-4A1D-A49B-64F447D3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2AE30-BE64-4A14-B06F-2DB0BC322C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