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29289"/>
        <c:axId val="23178228"/>
      </c:barChart>
      <c:catAx>
        <c:axId val="14829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78228"/>
        <c:crosses val="autoZero"/>
        <c:auto val="1"/>
        <c:lblAlgn val="ctr"/>
        <c:lblOffset val="100"/>
        <c:noMultiLvlLbl val="0"/>
      </c:catAx>
      <c:valAx>
        <c:axId val="23178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29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9DA-08AB-4666-B4A4-CB98F802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666-237C-465C-9984-2DD43AA9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A2B-B78F-4862-AC96-DCEB1880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ED6-DB4E-47BF-9765-12CD939D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644-F4AE-4E2B-956B-1DCD13A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31D-65C8-47C7-95DE-71DCFDC0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4CC-B544-4795-A8D4-78231B6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402-71F1-4708-8C0C-55BA48F3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C3A-F0EE-4219-B3F3-F3303E8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190-66FB-459F-8FE3-87F57AE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4F7-63EB-4D6A-9127-F264292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47E-403E-460C-BC72-56F6ABB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E4F6C-03BD-45F2-9941-5405A02129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