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63986"/>
        <c:axId val="90262940"/>
      </c:barChart>
      <c:catAx>
        <c:axId val="30963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62940"/>
        <c:crosses val="autoZero"/>
        <c:auto val="1"/>
        <c:lblAlgn val="ctr"/>
        <c:lblOffset val="100"/>
        <c:noMultiLvlLbl val="0"/>
      </c:catAx>
      <c:valAx>
        <c:axId val="902629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63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D55-DF7E-4EEB-B0CE-90DA7D89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627-4F88-4732-A13D-5B0CE9F4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8C57-30DC-4EFB-89A4-5A005522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FF6F-4871-4731-8D04-27442B32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5F2-C65D-4767-BDE4-6B050BFF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657-39B8-484E-8077-37917C46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6CA5-019B-4BB1-8884-5F0D2C33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0A60-60E7-45B4-8505-C27296DF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C01-1F7A-4F81-B95D-25A1BD00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B12-94DB-4CC2-9455-A9E9B80F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E28E-36AE-4482-B1B7-54DC1A4C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2FD-3ADB-45CB-BD4F-1D9A5390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5B563-3AC0-4C23-BA74-85F0C2E5EB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