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861417"/>
        <c:axId val="66909713"/>
      </c:barChart>
      <c:catAx>
        <c:axId val="488614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909713"/>
        <c:crosses val="autoZero"/>
        <c:auto val="1"/>
        <c:lblAlgn val="ctr"/>
        <c:lblOffset val="100"/>
        <c:noMultiLvlLbl val="0"/>
      </c:catAx>
      <c:valAx>
        <c:axId val="669097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8614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2904-F061-41D3-898E-CA1DBE8A6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DAF3-A44B-48D7-80E0-519E80EF3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4639-E5FA-40C1-A32E-1A05B2DA8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5697-B063-4059-AD0A-D0B2C7AED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6ED9-0325-44A3-89CB-048A0634C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660C-42D9-4D58-BA11-9D85390D6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F7B9-38EB-4F3A-BBA7-9F2D1C75E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D43B-61F9-4CDD-AD55-8AC6D288C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09AB-2880-482A-AB81-C0A074F1D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AB9D-F19B-42B2-836F-358803A8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5F35-4666-4CCE-929E-F1478A15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CC28-8353-421E-916A-E53CC1A6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786B6D-AAA0-44F6-BD3A-F275F42630C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