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94431"/>
        <c:axId val="57950049"/>
      </c:barChart>
      <c:catAx>
        <c:axId val="16994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50049"/>
        <c:crosses val="autoZero"/>
        <c:auto val="1"/>
        <c:lblAlgn val="ctr"/>
        <c:lblOffset val="100"/>
        <c:noMultiLvlLbl val="0"/>
      </c:catAx>
      <c:valAx>
        <c:axId val="57950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94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117-C4C1-4FE5-B811-F52FDBB7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863-6574-4CD4-A979-B8697E3A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A1A-5DD8-4E1B-8C63-A7551621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92B-A925-4429-A83F-ED037661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8D7-FE19-4242-8259-B6F15952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DC9-E7F4-4DED-AD41-DB927D9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52B-856B-4248-9621-BBA646EF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E7-4927-4A50-A19B-6144D31A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621-2A43-416D-B175-1ABFC16E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618-953D-4C9F-93B3-C09B56A6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095-699E-4C84-A05F-268FBBB5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292-750E-40A2-AB21-5220E36F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8A662-F015-448F-914E-B6CE881DD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