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8214"/>
        <c:axId val="99563177"/>
      </c:barChart>
      <c:catAx>
        <c:axId val="58582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63177"/>
        <c:crosses val="autoZero"/>
        <c:auto val="1"/>
        <c:lblAlgn val="ctr"/>
        <c:lblOffset val="100"/>
        <c:noMultiLvlLbl val="0"/>
      </c:catAx>
      <c:valAx>
        <c:axId val="995631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82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A7B-37B8-4C67-97F6-4433A200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EF6-C1DE-4C25-AB63-E139C419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DC24-A40F-47FC-965D-39BCAE73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FF49-4D37-43CD-99F4-B757F349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0F7-8BD2-41A0-9201-FB23B093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2E41-47E5-43D7-A68A-A40E0EB1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FA1-36F2-47A2-B14E-38843EBA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A97-8B41-43A1-B6CE-EEE55420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7013-A313-4108-9922-70E87B5B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658-C5A7-4D95-9873-85A741A6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844-7512-4869-A503-1FDACAE0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12DC-79D0-417A-8E79-72542AD1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D6F59-E7B9-4D61-93EB-9C44C836D2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