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89065"/>
        <c:axId val="65453224"/>
      </c:barChart>
      <c:catAx>
        <c:axId val="24489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53224"/>
        <c:crosses val="autoZero"/>
        <c:auto val="1"/>
        <c:lblAlgn val="ctr"/>
        <c:lblOffset val="100"/>
        <c:noMultiLvlLbl val="0"/>
      </c:catAx>
      <c:valAx>
        <c:axId val="65453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89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CA7-6A28-4BED-9959-7B450CD7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22D-A660-4411-8758-08CE3090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D66-D449-44D2-B9D7-AB02C35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161-E4E3-4175-87DF-DBBEBEDD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350-515B-4A9C-A9BB-065BACF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369-E4D6-4A11-A6B9-C5C4A512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DA1-99D7-4F80-BA27-4AEF309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F2D-A5CC-4985-9264-A54743B7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24A-7D33-4178-BBE5-99BAABF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5BB-1350-4327-80A4-F4C4F96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A0F-FE20-42FF-80F2-67A7F71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C49-7F51-4AC1-857D-28ED59A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237F5-4C58-477F-84FE-8EDE115D42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