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10946"/>
        <c:axId val="27713363"/>
      </c:barChart>
      <c:catAx>
        <c:axId val="66710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3363"/>
        <c:crosses val="autoZero"/>
        <c:auto val="1"/>
        <c:lblAlgn val="ctr"/>
        <c:lblOffset val="100"/>
        <c:noMultiLvlLbl val="0"/>
      </c:catAx>
      <c:valAx>
        <c:axId val="27713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0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7A0-2054-465D-BE2F-E7EE698A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626-4577-4647-933D-8F42F39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D98-D2B5-48BF-8E0D-B83CB918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676-0365-4057-B7A3-A9C34B1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FB3-594E-432E-A0E1-B5C734D4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46A-D319-4063-B28E-0EE0F963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7F-9F95-48CC-8C8B-57C2FF1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D4F-75DE-4DDF-9B98-52ECDB12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BB2-7DE6-4C8A-826A-9E23A2B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ED3-DB78-4DC2-8A28-5F54BFA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0F9-AC71-41EF-A8D7-8DC561B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195-0BB6-4B57-810F-05C75CF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B05AE-CCCF-4A85-8B15-98D349F7D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