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70335"/>
        <c:axId val="76822303"/>
      </c:barChart>
      <c:catAx>
        <c:axId val="69703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822303"/>
        <c:crosses val="autoZero"/>
        <c:auto val="1"/>
        <c:lblAlgn val="ctr"/>
        <c:lblOffset val="100"/>
        <c:noMultiLvlLbl val="0"/>
      </c:catAx>
      <c:valAx>
        <c:axId val="768223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703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1014-895E-4457-BEC7-E810D10A4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AE70-08ED-4F7B-A120-BFE3BCA6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030F-43D2-43F8-B0F6-878138738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229B-33E8-48E2-BB92-28C5CBA65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C043-92B6-421A-B649-198E9E16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C988-2C21-4472-B31B-2D91A8BB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B7D0-1854-4D87-8857-5FE48A5C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7C8D-FE85-49A7-86BD-A9EA3516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A522-85BE-4909-84AF-4C9812E4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BC75-F845-4C73-8501-0DF7245E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B258-A34C-46CB-8CDC-7BE97787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CE02-E162-49D4-90DA-3DBD458C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9F40C1-4E65-4A1F-A6E4-CDC2883F6C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