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7763"/>
        <c:axId val="70021400"/>
      </c:barChart>
      <c:catAx>
        <c:axId val="83287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1400"/>
        <c:crosses val="autoZero"/>
        <c:auto val="1"/>
        <c:lblAlgn val="ctr"/>
        <c:lblOffset val="100"/>
        <c:noMultiLvlLbl val="0"/>
      </c:catAx>
      <c:valAx>
        <c:axId val="70021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7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521-E73F-4FF2-89E4-7922EA09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778-9462-4C89-BFC6-A15C02DB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395-AE09-43ED-B681-9CD19DB3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B05-26AA-4C3B-BD70-EBFEADA9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175-CF11-48F6-9652-26B62EA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1D5-C3AA-4DB1-B329-C16C6AE5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FC2-4BA5-4BB9-A60F-F57D92D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EC7-2228-4030-8843-711A962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8FA-32B9-4109-BF10-64D90D83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B9E-586F-4637-A89B-D4B22D0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096-31E2-4C13-AAE2-7724458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F82-DCEA-4B46-898A-AC38533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4319-A3EE-4EB1-878D-899CDBBBCF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