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0690"/>
        <c:axId val="53667144"/>
      </c:barChart>
      <c:catAx>
        <c:axId val="3220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67144"/>
        <c:crosses val="autoZero"/>
        <c:auto val="1"/>
        <c:lblAlgn val="ctr"/>
        <c:lblOffset val="100"/>
        <c:noMultiLvlLbl val="0"/>
      </c:catAx>
      <c:valAx>
        <c:axId val="53667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0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C27-47A4-4197-9D16-F7F584E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8A3-0F73-4EC1-9DA1-DCEDFEC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9FC-D51D-4F2B-82CF-4F8CEA2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363-12B7-4FC8-A4A9-553EE39C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233-4B22-4F8A-9236-0709E4D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764-51BC-451C-800C-F12C195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1FC-D9CB-4312-85F6-BB21131E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BC3-19B6-4368-B503-440875C0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3A2-2BBC-4B5C-9285-1E2470A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D91-4A44-4012-BB54-8BCF36A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DCC-7CC7-4F8D-806B-6AF5787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4D9-3D4B-4C23-A4CE-0ED9548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E21AC-3711-4C77-9EC9-1072BBE54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