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10994"/>
        <c:axId val="23806456"/>
      </c:barChart>
      <c:catAx>
        <c:axId val="99510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06456"/>
        <c:crosses val="autoZero"/>
        <c:auto val="1"/>
        <c:lblAlgn val="ctr"/>
        <c:lblOffset val="100"/>
        <c:noMultiLvlLbl val="0"/>
      </c:catAx>
      <c:valAx>
        <c:axId val="23806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0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0E7-A8DD-4587-920D-8B3CBD8D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45A-E143-4472-9CF7-BF5CDB3E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633-1FF4-4468-BDBF-3B089BAE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EB3-4184-490C-BDC3-5DB327A4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031-D313-4D85-94ED-AEDFC502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085-0A71-4ADD-AAAE-F1821ECE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560-FE7C-4E8B-9095-33289D3B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C79-444A-4665-B18F-0BA2963E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A77-0F2F-4AB9-83C1-70D81A6B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835-6B52-432D-A9FE-356E00D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6F2-237B-468F-AFAA-06764A0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711-E5F9-48A7-A353-9E428DE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4B17B-3BDF-48B2-A065-6761A67490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