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50791"/>
        <c:axId val="6039522"/>
      </c:barChart>
      <c:catAx>
        <c:axId val="92150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522"/>
        <c:crosses val="autoZero"/>
        <c:auto val="1"/>
        <c:lblAlgn val="ctr"/>
        <c:lblOffset val="100"/>
        <c:noMultiLvlLbl val="0"/>
      </c:catAx>
      <c:valAx>
        <c:axId val="6039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50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44A-9728-4AF1-AE5E-A1CDB99E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CEB-6244-4283-9B61-B78CA47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39A-83F4-4994-A01C-69937E81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400-FBD3-42DF-A7A8-D53C0E80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824-8ECF-4E66-A950-9D3B1E91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E23-370B-436A-A8F2-4A0146A1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E5A-61BB-4C2A-8E0A-1F91194F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144-D49B-425F-AAC3-D8BDA14D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074-3393-4FBF-BF0C-D307FFA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F85-4656-4D74-9506-2F3624F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32D-4840-47EC-A01D-A47B815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B52-4385-44C8-9E49-ED95C0F4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75C3B-9F99-4F91-AB33-108C09B55B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