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893538"/>
        <c:axId val="95176067"/>
      </c:barChart>
      <c:catAx>
        <c:axId val="568935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76067"/>
        <c:crosses val="autoZero"/>
        <c:auto val="1"/>
        <c:lblAlgn val="ctr"/>
        <c:lblOffset val="100"/>
        <c:noMultiLvlLbl val="0"/>
      </c:catAx>
      <c:valAx>
        <c:axId val="951760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8935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7805-E0EB-443F-8BE9-135AB05E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FF6E-852C-44BE-9A15-525427B4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072-102D-43A5-9291-B417ACDD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191-969C-4767-8995-C2D6C8700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DBF-F611-4C9E-A936-470FF58E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CF7B-CE93-4E97-BA73-0AAD1E13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AF7D-1A2D-4B62-90B3-20CEB48C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D8F4-3166-475C-9AD7-C7995C6B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048F-4446-4F63-9A02-4FE2FA28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C96-1046-495C-B0AC-D53869B0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A509-8C87-44F8-B401-8DD2E52D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7D4-2D14-48C9-8F95-56324CA9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468BB-EFD5-4379-AA5C-AEA811E76B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