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08988"/>
        <c:axId val="12084895"/>
      </c:barChart>
      <c:catAx>
        <c:axId val="38808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84895"/>
        <c:crosses val="autoZero"/>
        <c:auto val="1"/>
        <c:lblAlgn val="ctr"/>
        <c:lblOffset val="100"/>
        <c:noMultiLvlLbl val="0"/>
      </c:catAx>
      <c:valAx>
        <c:axId val="12084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08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58A-6846-4B74-B99F-887514B2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79C-428A-4A5A-ACFE-83B1BA78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EA9-4A45-41C3-A91D-D9B0395D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C0E-5F59-4213-82F2-FF1AAF74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514-FA76-4C8C-B1AD-01898D28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A83-EC5B-46E4-A62F-FDFF9EE1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725-0037-4364-B103-3BE0D36A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A93-D604-46A9-849D-D56D401E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998-6643-4D36-A9F1-70EE9DC7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BF4-0AC4-4130-B6AA-09C22AE5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B1D-7817-47DC-82B2-EE02BB0A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0A2-4DC7-4ED1-B2F1-89AE2648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30431-CFAD-4412-AD3D-AC1928B40B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